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6EF-8EE2-4D0A-8C6C-0EA56EFA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F00-D042-4E53-ABDF-74427C88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772-4563-4299-88F3-188F99E5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8D5-120F-480A-AF6E-142AFFEF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7E0-24E2-4D08-ABA9-89EB18D2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6C0-DC71-4AFD-A47E-439B86FF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C17-61A6-410A-B6F5-65C4580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886A-E2DD-4854-9567-0D090D87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61B-EC43-46B7-93D5-FBE70B8C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0CE-83D3-47CE-A27F-4F656598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2EA-1172-432E-ACC8-0645F70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126-E64F-42FA-B88D-1148699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C19E-5229-4052-8BFD-EC698B426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3 Nature of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roperties of a solid reflect the orderly arrangement of their particles and the fixed locations of their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905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tightly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362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nse, not easily com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2666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ibrating particles around fixed points do not allow sol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352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ing solids give the particles more KE, which in turn, causes the structure of the solid to break down, and eventually m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Point (mp) – point at which a solid begins to turn into a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melt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447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 increased vibrations are big enough that they overcome the strong attraction which holds them in a fixed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312408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1240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1905120" cy="228600"/>
          </a:xfrm>
          <a:prstGeom prst="leftArrow">
            <a:avLst>
              <a:gd name="adj1" fmla="val 50000"/>
              <a:gd name="adj2" fmla="val 20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1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572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solids are crystals (orderly, repeating 3-D pattern called a crystal latt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shape of the crystal reflects the arrangement of the particles within the so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nding type between particles is what determines the melting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438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bonding = high mp because strong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895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bonding = low mp because weak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33526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508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ave sides (f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191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s of where the faces intersect  are always the same for a specific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 classifications (differ because of angles and number of edges of equal length on each 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295280"/>
            <a:ext cx="7467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ic – ga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tragonal – zir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rhombic – top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clinic – gyp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linic – amaz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gonal – tourma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ombohedral -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ell = smallest group of particles with a crystal that retains the geometric shape of th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523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4 ki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2133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tropes – 2 or more different molecular forms of the same element in the same physic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8954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 solid substances exist in more than on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42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= exists as diamonds, graphite, bucky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41148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otropes have different properties because their structures ar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952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nly some elements have allotropes (phosphorus, sulfur, oxygen, boron, and anti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rphous solids = lacks orderly inside structure; non cryslal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andom arrangement of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ber, plastics, asphalt,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04:08:21Z</dcterms:created>
  <dc:creator>jpak</dc:creator>
  <dc:description/>
  <dc:language>en-US</dc:language>
  <cp:lastModifiedBy>Farwell Area Schools</cp:lastModifiedBy>
  <dcterms:modified xsi:type="dcterms:W3CDTF">2008-01-21T18:38:19Z</dcterms:modified>
  <cp:revision>8</cp:revision>
  <dc:subject/>
  <dc:title>8-3 Nature of Solids</dc:title>
</cp:coreProperties>
</file>